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150-A850-42E4-975B-0838AF73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ED3-2998-4195-B3EC-EF5391D4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ADF-A1FC-439B-BB0D-C11C586B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743-0B25-44F0-8BCA-21B71D2D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5502-F594-4E6A-9225-0EFC67F9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4964-5C9B-4A95-92F3-063444DB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85C0-4DD9-4516-9FBC-5BD7B7EB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0EA2-A8AF-4807-BF2A-9CD7FEE7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05E7-9797-4748-8072-14D3E608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997D-D980-4C1F-8243-87CA7585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CF36-2070-4404-9BCA-A8BD8083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3A2-07A7-464B-A2BE-C7E0BD81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1FF8-00DC-451A-ACEF-B0A7474A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4E3A-2E19-4240-A924-9893FE29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5268-523A-4632-A285-DB6FCC2C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9B87-1BCF-4788-B33F-EAE19D1E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111F-0188-4B01-9D16-5EA39990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A4CD-4839-43D7-B259-CBF80D63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314-95C1-4312-85B7-2C885F39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E14-7B71-4F01-A967-C79A9DF5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DAE-4073-4D79-A514-99FDCC40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69B-CD1F-49FA-AAFF-9759BF5D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4CD-8ADB-4295-A7AD-B87AD5CC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856-5F2B-495D-AB91-55C64C5E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48BC-2EF0-4100-8E6E-56136C4425B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6361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E34E-960D-4E5D-98B7-45C009B4FF6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684360" y="549360"/>
            <a:ext cx="806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ahoma"/>
              </a:rPr>
              <a:t>Мастер-класс по теме: «Лабораторные работы по математике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16360" y="3789360"/>
            <a:ext cx="40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читель математики МОУ СОШ №2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. Белин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одионова И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Матье Хемакерзом-Бельгия"/>
          <p:cNvPicPr/>
          <p:nvPr/>
        </p:nvPicPr>
        <p:blipFill>
          <a:blip r:embed="rId1"/>
          <a:stretch/>
        </p:blipFill>
        <p:spPr>
          <a:xfrm>
            <a:off x="2227320" y="404640"/>
            <a:ext cx="4689360" cy="60487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4" descr="Mebius%20XXII.jpg"/>
          <p:cNvPicPr/>
          <p:nvPr/>
        </p:nvPicPr>
        <p:blipFill>
          <a:blip r:embed="rId1"/>
          <a:srcRect l="0" t="8331" r="0" b="11458"/>
          <a:stretch/>
        </p:blipFill>
        <p:spPr>
          <a:xfrm>
            <a:off x="1714680" y="142920"/>
            <a:ext cx="5500440" cy="66135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Мебиус1"/>
          <p:cNvPicPr/>
          <p:nvPr/>
        </p:nvPicPr>
        <p:blipFill>
          <a:blip r:embed="rId1"/>
          <a:stretch/>
        </p:blipFill>
        <p:spPr>
          <a:xfrm>
            <a:off x="2124000" y="189000"/>
            <a:ext cx="4765680" cy="63579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optic_6"/>
          <p:cNvPicPr/>
          <p:nvPr/>
        </p:nvPicPr>
        <p:blipFill>
          <a:blip r:embed="rId1"/>
          <a:stretch/>
        </p:blipFill>
        <p:spPr>
          <a:xfrm>
            <a:off x="303120" y="1400040"/>
            <a:ext cx="8537760" cy="40579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fractals_work_of_jean_constant"/>
          <p:cNvPicPr/>
          <p:nvPr/>
        </p:nvPicPr>
        <p:blipFill>
          <a:blip r:embed="rId1"/>
          <a:stretch/>
        </p:blipFill>
        <p:spPr>
          <a:xfrm>
            <a:off x="2401920" y="166680"/>
            <a:ext cx="4340160" cy="65246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11-1.gif"/>
          <p:cNvPicPr/>
          <p:nvPr/>
        </p:nvPicPr>
        <p:blipFill>
          <a:blip r:embed="rId1"/>
          <a:stretch/>
        </p:blipFill>
        <p:spPr>
          <a:xfrm>
            <a:off x="1928880" y="142920"/>
            <a:ext cx="5214960" cy="65595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лист мёбиуса 1"/>
          <p:cNvPicPr/>
          <p:nvPr/>
        </p:nvPicPr>
        <p:blipFill>
          <a:blip r:embed="rId1"/>
          <a:stretch/>
        </p:blipFill>
        <p:spPr>
          <a:xfrm>
            <a:off x="1403280" y="1413000"/>
            <a:ext cx="6473880" cy="48560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Лист Мебиуса в природе.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transition spd="med" advTm="1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vselennaya_kak_dodekaedr_0.jpg">
            <a:hlinkClick r:id="rId1" action="ppaction://hlinksldjump"/>
          </p:cNvPr>
          <p:cNvPicPr/>
          <p:nvPr/>
        </p:nvPicPr>
        <p:blipFill>
          <a:blip r:embed="rId2"/>
          <a:srcRect l="0" t="0" r="0" b="8126"/>
          <a:stretch/>
        </p:blipFill>
        <p:spPr>
          <a:xfrm>
            <a:off x="357120" y="428760"/>
            <a:ext cx="8390160" cy="59292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71440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c000"/>
                </a:solidFill>
                <a:latin typeface="Tahoma"/>
              </a:rPr>
              <a:t>ЛИСТ МЁБИУСА</a:t>
            </a:r>
            <a:endParaRPr b="0" lang="en-US" sz="12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1" name="Рисунок 3" descr="vselennaya_kak_dodekaedr_0.jpg"/>
          <p:cNvPicPr/>
          <p:nvPr/>
        </p:nvPicPr>
        <p:blipFill>
          <a:blip r:embed="rId1"/>
          <a:srcRect l="0" t="0" r="0" b="8126"/>
          <a:stretch/>
        </p:blipFill>
        <p:spPr>
          <a:xfrm>
            <a:off x="357120" y="428760"/>
            <a:ext cx="3133800" cy="221436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mebius"/>
          <p:cNvPicPr/>
          <p:nvPr/>
        </p:nvPicPr>
        <p:blipFill>
          <a:blip r:embed="rId1"/>
          <a:stretch/>
        </p:blipFill>
        <p:spPr>
          <a:xfrm>
            <a:off x="414360" y="905040"/>
            <a:ext cx="4157640" cy="50479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88000" y="549000"/>
            <a:ext cx="416232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вгуст Фердинанд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ёбиус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1790-1868)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4" name="Picture 4" descr="mebius"/>
          <p:cNvPicPr/>
          <p:nvPr/>
        </p:nvPicPr>
        <p:blipFill>
          <a:blip r:embed="rId2"/>
          <a:stretch/>
        </p:blipFill>
        <p:spPr>
          <a:xfrm>
            <a:off x="5508720" y="4221000"/>
            <a:ext cx="2832120" cy="193068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История открытия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4437000"/>
            <a:ext cx="88059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т Мёбиуса относится к числу «математических неожиданностей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казывают, что открыть свой «лист» Мёбиусу помогла служанка, сшившая однажды неправильно концы лен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лист мебиуса 3"/>
          <p:cNvPicPr/>
          <p:nvPr/>
        </p:nvPicPr>
        <p:blipFill>
          <a:blip r:embed="rId1"/>
          <a:stretch/>
        </p:blipFill>
        <p:spPr>
          <a:xfrm>
            <a:off x="2195640" y="1268280"/>
            <a:ext cx="4752720" cy="29466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т Мёбиуса получается очень просто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лейте из бумажной полоски кольцо, только перед склеиванием поверните один конец на 18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Если полоска бумаги была длинной, то такой поворот мог произойти и случайно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лист мёбиуса 2"/>
          <p:cNvPicPr/>
          <p:nvPr/>
        </p:nvPicPr>
        <p:blipFill>
          <a:blip r:embed="rId1"/>
          <a:stretch/>
        </p:blipFill>
        <p:spPr>
          <a:xfrm>
            <a:off x="1547640" y="3860640"/>
            <a:ext cx="6350040" cy="27306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mebius"/>
          <p:cNvPicPr/>
          <p:nvPr/>
        </p:nvPicPr>
        <p:blipFill>
          <a:blip r:embed="rId1"/>
          <a:srcRect l="10798" t="10798" r="9584" b="4589"/>
          <a:stretch/>
        </p:blipFill>
        <p:spPr>
          <a:xfrm>
            <a:off x="785880" y="428760"/>
            <a:ext cx="7607160" cy="60642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pic>
        <p:nvPicPr>
          <p:cNvPr id="101" name="Kalimba.mp3" descr=""/>
          <p:cNvPicPr/>
          <p:nvPr/>
        </p:nvPicPr>
        <p:blipFill>
          <a:blip r:embed="rId2"/>
          <a:stretch/>
        </p:blipFill>
        <p:spPr>
          <a:xfrm>
            <a:off x="8459640" y="6203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mebius9.jpg"/>
          <p:cNvPicPr/>
          <p:nvPr/>
        </p:nvPicPr>
        <p:blipFill>
          <a:blip r:embed="rId1"/>
          <a:stretch/>
        </p:blipFill>
        <p:spPr>
          <a:xfrm>
            <a:off x="428760" y="571680"/>
            <a:ext cx="8286480" cy="55512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0_12b51_4a45a684_XL.jpg"/>
          <p:cNvPicPr/>
          <p:nvPr/>
        </p:nvPicPr>
        <p:blipFill>
          <a:blip r:embed="rId1"/>
          <a:srcRect l="21237" t="0" r="0" b="0"/>
          <a:stretch/>
        </p:blipFill>
        <p:spPr>
          <a:xfrm>
            <a:off x="1071720" y="142920"/>
            <a:ext cx="6858000" cy="65307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180px-MobiusStrip-01.png"/>
          <p:cNvPicPr/>
          <p:nvPr/>
        </p:nvPicPr>
        <p:blipFill>
          <a:blip r:embed="rId1"/>
          <a:stretch/>
        </p:blipFill>
        <p:spPr>
          <a:xfrm>
            <a:off x="1214280" y="714240"/>
            <a:ext cx="6858000" cy="54104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3:41:12Z</dcterms:created>
  <dc:creator>комп</dc:creator>
  <dc:description/>
  <dc:language>en-US</dc:language>
  <cp:lastModifiedBy>1</cp:lastModifiedBy>
  <dcterms:modified xsi:type="dcterms:W3CDTF">2012-03-30T01:34:57Z</dcterms:modified>
  <cp:revision>62</cp:revision>
  <dc:subject/>
  <dc:title>ЛИСТ МЕБИУСА</dc:title>
</cp:coreProperties>
</file>